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8EB-A10A-463A-AF93-9B565C68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8EF-F495-466B-920B-910CA77E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8FB-5DA8-4F5A-8EF8-A993C436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FF8-30F5-4CB1-9DD9-4E0E0FEF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6F2-12D5-4C68-9431-DA352770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1AD-D7C6-4C00-A23C-C73979CF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3F2-078E-4082-8C3D-1588FEE8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EEB-4E41-4924-BC11-293949AC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D8F-DF68-4866-9335-FD1BFF7D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C8C-8560-4C5A-B634-482A0F93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A63-7844-4FAA-A860-EF4AFD5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080-60DC-4703-916C-FD6E47FD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7DCF-0627-40F9-B440-B3A28E6DB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straus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495288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27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371600"/>
            <a:ext cx="662940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lue Jea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va Flow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/7/10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Strauss"/>
          <p:cNvPicPr/>
          <p:nvPr/>
        </p:nvPicPr>
        <p:blipFill>
          <a:blip r:embed="rId1"/>
          <a:stretch/>
        </p:blipFill>
        <p:spPr>
          <a:xfrm>
            <a:off x="1295280" y="609480"/>
            <a:ext cx="5334120" cy="21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56386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10552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lue Jean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straus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289548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lue jeans people would wear nothing but sweatpants. Thanks to Levi Strauss, people can now create different kinds and colors of blue j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s: Blue J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 jeans were born (first made) in Ma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8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in two styles indigo blue and brown co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blue jeans were embraced by fashion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atured in Vogue magaz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Jeans (ecspecially Levis’ jeans) were such a demand in Eastern bloc countries they became underground standard of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Jeans are very popular and people wear them all around the world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ake different types and colors of blue j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 Strauss was 24 when he left New York hoping to cash gold in the gold rush in 185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pened a store with his brother in-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 Strauss became a international phenomenon and an icon of American culture for creating “Blue Jean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7Z</dcterms:created>
  <dc:creator>install</dc:creator>
  <dc:description/>
  <dc:language>en-US</dc:language>
  <cp:lastModifiedBy>install</cp:lastModifiedBy>
  <dcterms:modified xsi:type="dcterms:W3CDTF">2010-05-12T17:37:53Z</dcterms:modified>
  <cp:revision>8</cp:revision>
  <dc:subject/>
  <dc:title>Slide 1</dc:title>
</cp:coreProperties>
</file>